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5FF-CE99-4EBF-B0D4-4CFBEFAB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D50-DEF8-4375-84B5-6B2F25CA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F4B-5F35-45E0-90E2-62244114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EA2-DCEE-4AD1-AB24-8CADCF2C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BBE-4D30-4518-9C94-07A5F3E0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742-C124-47A6-9282-A9E20B7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EF4-AAC9-4A17-99A5-0B1DC670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C88-0B89-4A06-B41C-711351CB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D0D-15DF-4210-A8F9-583C9445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D50-572F-41D1-B35D-AD8792F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23B-723C-436B-80E3-7D9560D3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972-4703-40F8-A310-E8F4EC9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98C0-2FDD-4303-A56C-A9D139E25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תי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7086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לילה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151080"/>
            <a:ext cx="3429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ם   לא    עכשיו   אז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33920" y="3402000"/>
            <a:ext cx="4952880" cy="2724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69160" y="2438280"/>
            <a:ext cx="14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ת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66880" y="3379680"/>
            <a:ext cx="5410440" cy="2975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666720" y="0"/>
            <a:ext cx="98107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לא  ביום  ולא  בל_ _ 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חרש אצא לי הטייל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א  בהר ולא  בבקע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טה עומדה שם עתיק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048120"/>
            <a:ext cx="296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ליל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תי  זה ? 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6:00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ער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52680" y="2303640"/>
            <a:ext cx="4753080" cy="35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תי  זה ? 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ב _ _ _ _ _ _ </a:t>
            </a:r>
            <a:br>
              <a:rPr sz="4000"/>
            </a:b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צהרי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2835360"/>
            <a:ext cx="6400800" cy="35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1981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את  _ _ _ _ _   טוב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6553440" cy="360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86200" y="167652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עבוד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2773440"/>
            <a:ext cx="6095880" cy="3352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1720" y="1727280"/>
            <a:ext cx="170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עוב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   _ _ _ _ 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3406680"/>
            <a:ext cx="5638680" cy="3100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36560" y="1727280"/>
            <a:ext cx="21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יעור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ה  אלה ?  _ _ _ _ _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br>
              <a:rPr sz="4000"/>
            </a:b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חדשות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29000" y="3235320"/>
            <a:ext cx="52578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 _ _  _ _ _   ברדי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52680" y="3151080"/>
            <a:ext cx="5410440" cy="297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46680" y="2057400"/>
            <a:ext cx="458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תי ,  חדשות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62040" y="2743200"/>
            <a:ext cx="2043000" cy="2610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60360" y="1219320"/>
            <a:ext cx="30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שעה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7:00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בא  הולך  ב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7: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ב_ _ 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ע_ _ _ _ .</a:t>
            </a:r>
            <a:br>
              <a:rPr sz="4000"/>
            </a:br>
            <a:br>
              <a:rPr sz="4000"/>
            </a:b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ע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רב,  עבוד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55623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2:52:35Z</dcterms:created>
  <dc:creator>Preferred Customer</dc:creator>
  <dc:description/>
  <dc:language>en-US</dc:language>
  <cp:lastModifiedBy>Preferred Customer</cp:lastModifiedBy>
  <dcterms:modified xsi:type="dcterms:W3CDTF">2008-12-18T03:27:13Z</dcterms:modified>
  <cp:revision>3</cp:revision>
  <dc:subject/>
  <dc:title>מתי  זה?  </dc:title>
</cp:coreProperties>
</file>